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02B-D0E2-4F3A-856C-BC8E302F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A50-DC8A-4A4D-878A-DF011791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462-C023-4D8E-992C-06FCC431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A46-B16E-4679-AD13-86086FBC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8BED-AC4B-4508-8974-E541F982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19DD-1CEC-4610-8082-BD1E400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35A4-BFA8-446B-9F74-EB10ED5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5ABD-A712-4050-9BD2-F67740C0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95D4-4C57-4DCD-8EF8-CC00E34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262F-F8DB-4E9E-BE30-A43767E3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AF8B-0C72-48DA-B47B-10BC069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717-43A1-4244-A85B-916636B6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927D-095D-4860-8ED1-B1D4E886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79B2-1952-402D-B75A-4E7D2AF2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AB72-8459-462E-B96C-0EC20B4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A10-DA66-4BE5-BDB7-1771D7F1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A4DD-9DC7-4E13-AEFC-638D88A0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82E-0733-4D89-A54C-80648B8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3D5-EF1C-4EC5-9D5C-4BDE5F75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53D-544B-442C-9BCD-A9801EAB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734-A876-4340-862C-A10D7C66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CA9-8483-4E8A-A41F-88600449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1F5-EAEA-4FDE-A126-F3E0DA3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97C-2C91-4D97-B84E-BE49DF4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E74-F8F6-457B-87DE-BF03113763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3690-86A0-4DA2-BB4A-204F64325A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Monotype Corsiva"/>
              </a:rPr>
              <a:t>Rare Earth Metal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rent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uliano Galeazz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Ele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nium-Atomic # 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tonium-Atomic # 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ifornium-Atomic # 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U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nium-Used in Ammu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tonium-Used in Batt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ifornium-Used in Coal factories and 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Interesting Fac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Element are Radioa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re used in bom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re very r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cation on the periodic Ta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bottom separated from the other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The End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You are now educated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59:05Z</dcterms:created>
  <dc:creator>tatumadmin</dc:creator>
  <dc:description/>
  <dc:language>en-US</dc:language>
  <cp:lastModifiedBy>tatumadmin</cp:lastModifiedBy>
  <dcterms:modified xsi:type="dcterms:W3CDTF">2009-12-04T17:33:09Z</dcterms:modified>
  <cp:revision>2</cp:revision>
  <dc:subject/>
  <dc:title>Rare Earth Metals </dc:title>
</cp:coreProperties>
</file>